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37960"/>
            <a:ext cx="0" cy="639144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4280" y="76320"/>
            <a:ext cx="783900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93800" cy="9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781-266C-460E-8148-BC12BC9AD5C6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640080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sto MT"/>
              </a:rPr>
              <a:t>Manage Enlisted Promotions and Reductions</a:t>
            </a:r>
            <a:endParaRPr b="1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Enlisted Promo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d Reduction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Given AR 600-8-19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that a complet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decentralized promotion cycle wa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establish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de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promotions were process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rrect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3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that a complet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semicentralized promotio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cycle was establish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4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soldiers being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onsidered for 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promotions met the eligibilit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riteria before th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Headquarters Department of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the Army (HQDA) boar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onven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5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(SFC, MSG, SGM) promo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were processed correct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reduc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were process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7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wartime standard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for promotions were adhere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o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 this lesson, you learned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hree levels of the Enlisted Promotion System and their unique characteristic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principals of reduction and the responsibilities of a Human Resources Sergeant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3T22:27:02Z</dcterms:created>
  <dc:creator>ADG</dc:creator>
  <dc:description/>
  <dc:language>en-US</dc:language>
  <cp:lastModifiedBy>Administrator</cp:lastModifiedBy>
  <cp:lastPrinted>1998-12-08T20:03:49Z</cp:lastPrinted>
  <dcterms:modified xsi:type="dcterms:W3CDTF">2005-07-08T18:50:56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8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